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52D-BA9C-4BAF-AA33-231412B8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E91-4AF4-4940-A3B7-8618F9C3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3BB-AEDD-4087-BDC3-EBDF58DF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E3B-DC38-4F5B-8B6D-FD79B17B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E2C5-E1D1-4961-8A7C-D208C5FF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2850-B1FC-406D-B704-D09CD336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5708-821C-4CA4-B44F-16C0F392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3154-9356-460E-95EC-684F1488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8B23-6DAD-408F-92CB-AE7646AA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EBC5-B058-464D-A2C3-10E6B2A6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35AB-4AD3-471F-B9E3-1A223179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503-1E04-4DDB-97D2-B378B058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BEF5-B3CB-4AF4-BB76-78DCD062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36E0-629D-4F55-AAFD-F9181F01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C693-0ECB-4052-9898-B4BF7E1D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369C-8360-41D7-9201-DE20ABE7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84D7-D0B6-4C11-8BC5-21C88C10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F31F-1900-4769-B9CD-881986CF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79753-CB00-4E9D-8263-B391F270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9C4F-9476-4210-848A-4546330B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7011-4C7B-4A08-91A6-9F02ACB9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9AB85-B287-4C2F-9732-8240A15C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9C8-B349-4BB3-A904-91D0ECC3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4C825-8215-4F1E-9D31-432B24CC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357C6-FFC8-4769-B23B-C729444B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B1249-22AB-4076-A756-E70FDA6C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AFB33-FECB-4095-9EB6-D3B8F5F0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3193E-70D6-428B-AA3D-502AE007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C4736-D4E6-4E96-8070-4E6F8691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169F7-9F41-4251-AC6D-37E98E02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49482-51A8-4C67-924E-FDC47FB7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AA715-DCAD-4B1E-8405-C177380A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17177-9FEB-46E6-878C-A4FD9178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33F-042D-434C-90C4-FDDE6ED3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145E5-19E7-4835-B6A8-116C6434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43D33-B3F8-4263-AB71-3E185168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E11EB-255A-4514-9C11-05DE1EF6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1912E-C39E-471C-87DF-D597BC6D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97D24-4BCC-4FA0-80A5-F3C7055D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67EF0-B6B9-40CA-8705-1E6FEC4D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D0BA5-CCCB-4B92-8811-A4F1B823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A79C3-A048-4B70-B49F-9191EB19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6324-CFB0-4381-AAC5-ED810E84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F1BA7-4CA4-4815-8EF9-1505AD49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36A-49FD-4EB0-94FD-A82A4543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C1EB1-2F77-444B-8522-A98C70CE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8F657-5A88-4013-9FD1-263FE0CF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FCD7E-18F4-4EC8-8533-473F9CCB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B53D2-4937-4619-B497-E3CE2E7F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C53D4-AA1B-4613-A4D0-82755393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5C070-6A3D-4BD2-8B38-FF577ADE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A95F1-7C6E-4568-82A2-F8BCF430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28C50-7287-4B14-B53E-E7E71CEE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7A98F-CD6F-4269-94F9-EDF21B70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F8777-E332-4171-8AAD-D677E98A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38D-D37E-4FE8-A220-5FAFC786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F6B8F-76D8-4CDE-AF93-22D1E867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50C1E-B147-469B-AF36-5CE4A7FE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4C21D-52F8-41D1-B325-F34A770E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DE0BD-245A-4497-BE27-DDA134FB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1F009-8C7A-403B-B91A-871BEC52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4300A-8FDD-4E60-A313-1B11EC4A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DF161-5A24-40DF-B047-DF2FFB2F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FCFCD-E267-4283-ACF7-7C1FE9AE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A637D-8A22-467D-9165-9D12D1AF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B5873-FA3B-48F1-8807-E7BAFEE4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CA2-0330-4438-A01C-9CA61180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25626-5ED5-4B61-A6AA-27AE222E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752EF-3CBD-464F-9994-EB9A8035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BE621-27A6-4532-918F-3F58F424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F3E09-F1C1-4975-B1FE-EED206D6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F2B26-99F7-48B1-93ED-F0AB7F14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CD847-63B9-4F0D-8267-B661258C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F4AC6-1084-4C06-A42A-FA1CEBA9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0368F-C3DC-4339-B9E3-B545C61C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2C2BC-5826-478B-A65C-D06D2CB6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11EB2-5706-46B3-942C-6886737F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1F8-E9BC-4C37-B340-D52EBF5C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E4DCF-FC19-4408-B790-24AA05C2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97A8D-9819-4A6A-96A7-AE1D4865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A7798-41F0-4B33-AE47-90468D30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7950D-3DF1-40E3-8E7B-17553F60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3CB93-DC0F-4349-96FD-E702AB41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3F0-96D4-4090-B8A7-D4C5BE32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5A99-9C07-4693-8BBD-4F7D18048E2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78AD-18EF-43F6-8E62-1AFE1E0320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FF79-1B67-49A8-800F-59CCA73788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46EB-7320-4664-894B-BF9140BE105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3C1C-74A5-4732-8485-052277D4706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811B-9A0D-459D-A3E1-3617A6DE09E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58DC-37E3-4288-8347-E8651FF950F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ay 2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, 2011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D 527 Authoring Systems/Instructional Desig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E:\Wilkes\Systems\Pictures\n1349334700_290193_5964830.jpg"/>
          <p:cNvPicPr/>
          <p:nvPr/>
        </p:nvPicPr>
        <p:blipFill>
          <a:blip r:embed="rId2"/>
          <a:stretch/>
        </p:blipFill>
        <p:spPr>
          <a:xfrm>
            <a:off x="1281240" y="1676520"/>
            <a:ext cx="65674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E:\Wilkes\Systems\Pictures\5491_577341096917_26605025_34202937_793271_n.jpg"/>
          <p:cNvPicPr/>
          <p:nvPr/>
        </p:nvPicPr>
        <p:blipFill>
          <a:blip r:embed="rId2"/>
          <a:stretch/>
        </p:blipFill>
        <p:spPr>
          <a:xfrm>
            <a:off x="1146240" y="1600200"/>
            <a:ext cx="6854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6"/>
          <p:cNvGrpSpPr/>
          <p:nvPr/>
        </p:nvGrpSpPr>
        <p:grpSpPr>
          <a:xfrm>
            <a:off x="5791320" y="1981080"/>
            <a:ext cx="2466720" cy="4286520"/>
            <a:chOff x="5791320" y="1981080"/>
            <a:chExt cx="2466720" cy="4286520"/>
          </a:xfrm>
        </p:grpSpPr>
        <p:pic>
          <p:nvPicPr>
            <p:cNvPr id="343" name="Picture 7" descr="E:\Wilkes\Systems\Pictures\Jeep_logo2.jpg"/>
            <p:cNvPicPr/>
            <p:nvPr/>
          </p:nvPicPr>
          <p:blipFill>
            <a:blip r:embed="rId2"/>
            <a:stretch/>
          </p:blipFill>
          <p:spPr>
            <a:xfrm>
              <a:off x="5791320" y="1981080"/>
              <a:ext cx="2324160" cy="17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6" descr="E:\Wilkes\Systems\Pictures\jeep_silver.jpg"/>
            <p:cNvPicPr/>
            <p:nvPr/>
          </p:nvPicPr>
          <p:blipFill>
            <a:blip r:embed="rId3"/>
            <a:stretch/>
          </p:blipFill>
          <p:spPr>
            <a:xfrm>
              <a:off x="5791320" y="4419720"/>
              <a:ext cx="2466720" cy="184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2"/>
          <p:cNvGrpSpPr/>
          <p:nvPr/>
        </p:nvGrpSpPr>
        <p:grpSpPr>
          <a:xfrm>
            <a:off x="838080" y="1600200"/>
            <a:ext cx="2895840" cy="4905360"/>
            <a:chOff x="838080" y="1600200"/>
            <a:chExt cx="2895840" cy="4905360"/>
          </a:xfrm>
        </p:grpSpPr>
        <p:pic>
          <p:nvPicPr>
            <p:cNvPr id="346" name="Picture 3" descr="E:\Wilkes\Systems\Pictures\phillies_logo.gif"/>
            <p:cNvPicPr/>
            <p:nvPr/>
          </p:nvPicPr>
          <p:blipFill>
            <a:blip r:embed="rId4"/>
            <a:stretch/>
          </p:blipFill>
          <p:spPr>
            <a:xfrm>
              <a:off x="838080" y="1600200"/>
              <a:ext cx="2895840" cy="26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2" descr="E:\Wilkes\Systems\Pictures\world series.jpg"/>
            <p:cNvPicPr/>
            <p:nvPr/>
          </p:nvPicPr>
          <p:blipFill>
            <a:blip r:embed="rId5"/>
            <a:stretch/>
          </p:blipFill>
          <p:spPr>
            <a:xfrm>
              <a:off x="1218960" y="4419720"/>
              <a:ext cx="2190960" cy="20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F:\Wilkes\Systems\Pictures\229569_1844744596194_1167999021_31781032_6029642_n.jpg"/>
          <p:cNvPicPr/>
          <p:nvPr/>
        </p:nvPicPr>
        <p:blipFill>
          <a:blip r:embed="rId2"/>
          <a:stretch/>
        </p:blipFill>
        <p:spPr>
          <a:xfrm>
            <a:off x="1143000" y="156204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F:\Wilkes\Systems\Pictures\ku2.jpg"/>
          <p:cNvPicPr/>
          <p:nvPr/>
        </p:nvPicPr>
        <p:blipFill>
          <a:blip r:embed="rId2"/>
          <a:stretch/>
        </p:blipFill>
        <p:spPr>
          <a:xfrm>
            <a:off x="4267080" y="2895480"/>
            <a:ext cx="4146840" cy="2152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F:\Wilkes\Systems\Pictures\AAAblueemblem.JPG"/>
          <p:cNvPicPr/>
          <p:nvPr/>
        </p:nvPicPr>
        <p:blipFill>
          <a:blip r:embed="rId3"/>
          <a:stretch/>
        </p:blipFill>
        <p:spPr>
          <a:xfrm>
            <a:off x="838080" y="2209680"/>
            <a:ext cx="27432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1934 -0.19028 E">
                                      <p:cBhvr>
                                        <p:cTn id="22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F:\Wilkes\Systems\Pictures\ku2.jpg"/>
          <p:cNvPicPr/>
          <p:nvPr/>
        </p:nvPicPr>
        <p:blipFill>
          <a:blip r:embed="rId2"/>
          <a:stretch/>
        </p:blipFill>
        <p:spPr>
          <a:xfrm>
            <a:off x="2819520" y="1581120"/>
            <a:ext cx="2743200" cy="142416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7"/>
          <p:cNvGrpSpPr/>
          <p:nvPr/>
        </p:nvGrpSpPr>
        <p:grpSpPr>
          <a:xfrm>
            <a:off x="5181480" y="2698920"/>
            <a:ext cx="3608640" cy="4082760"/>
            <a:chOff x="5181480" y="2698920"/>
            <a:chExt cx="3608640" cy="4082760"/>
          </a:xfrm>
        </p:grpSpPr>
        <p:pic>
          <p:nvPicPr>
            <p:cNvPr id="311" name="Picture 5" descr="F:\Wilkes\Systems\Pictures\kumu.jpg"/>
            <p:cNvPicPr/>
            <p:nvPr/>
          </p:nvPicPr>
          <p:blipFill>
            <a:blip r:embed="rId3"/>
            <a:srcRect l="0" t="24895" r="0" b="28893"/>
            <a:stretch/>
          </p:blipFill>
          <p:spPr>
            <a:xfrm>
              <a:off x="5546880" y="2698920"/>
              <a:ext cx="3063600" cy="14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2" descr="E:\Wilkes\Systems\Pictures\familyday2.jpg"/>
            <p:cNvPicPr/>
            <p:nvPr/>
          </p:nvPicPr>
          <p:blipFill>
            <a:blip r:embed="rId4"/>
            <a:stretch/>
          </p:blipFill>
          <p:spPr>
            <a:xfrm>
              <a:off x="5181480" y="4075560"/>
              <a:ext cx="3608640" cy="270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3" name="Group 6"/>
          <p:cNvGrpSpPr/>
          <p:nvPr/>
        </p:nvGrpSpPr>
        <p:grpSpPr>
          <a:xfrm>
            <a:off x="376200" y="2693880"/>
            <a:ext cx="3281400" cy="4087800"/>
            <a:chOff x="376200" y="2693880"/>
            <a:chExt cx="3281400" cy="4087800"/>
          </a:xfrm>
        </p:grpSpPr>
        <p:pic>
          <p:nvPicPr>
            <p:cNvPr id="314" name="Picture 3" descr="F:\Wilkes\Systems\Pictures\kur_board.jpg"/>
            <p:cNvPicPr/>
            <p:nvPr/>
          </p:nvPicPr>
          <p:blipFill>
            <a:blip r:embed="rId5"/>
            <a:stretch/>
          </p:blipFill>
          <p:spPr>
            <a:xfrm>
              <a:off x="376200" y="4324320"/>
              <a:ext cx="3281400" cy="24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2" descr="F:\Wilkes\Systems\Pictures\kur.jpg"/>
            <p:cNvPicPr/>
            <p:nvPr/>
          </p:nvPicPr>
          <p:blipFill>
            <a:blip r:embed="rId6"/>
            <a:srcRect l="0" t="0" r="0" b="37536"/>
            <a:stretch/>
          </p:blipFill>
          <p:spPr>
            <a:xfrm>
              <a:off x="837720" y="2693880"/>
              <a:ext cx="1689480" cy="1268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F:\Wilkes\Systems\Pictures\building.jpg"/>
          <p:cNvPicPr/>
          <p:nvPr/>
        </p:nvPicPr>
        <p:blipFill>
          <a:blip r:embed="rId2"/>
          <a:stretch/>
        </p:blipFill>
        <p:spPr>
          <a:xfrm>
            <a:off x="2057400" y="1676520"/>
            <a:ext cx="4703760" cy="2057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E:\Wilkes\Systems\Pictures\imagesCANE3T2Y.jpg"/>
          <p:cNvPicPr/>
          <p:nvPr/>
        </p:nvPicPr>
        <p:blipFill>
          <a:blip r:embed="rId3"/>
          <a:stretch/>
        </p:blipFill>
        <p:spPr>
          <a:xfrm>
            <a:off x="5334120" y="4038480"/>
            <a:ext cx="3579840" cy="236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E:\Wilkes\Systems\Pictures\imagesCAYIX0WT.jpg"/>
          <p:cNvPicPr/>
          <p:nvPr/>
        </p:nvPicPr>
        <p:blipFill>
          <a:blip r:embed="rId4"/>
          <a:stretch/>
        </p:blipFill>
        <p:spPr>
          <a:xfrm>
            <a:off x="0" y="3809880"/>
            <a:ext cx="51465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7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E:\Wilkes\Systems\Pictures\30036_128131220534774_100000136894249_345996_5325200_n.jpg"/>
          <p:cNvPicPr/>
          <p:nvPr/>
        </p:nvPicPr>
        <p:blipFill>
          <a:blip r:embed="rId2"/>
          <a:stretch/>
        </p:blipFill>
        <p:spPr>
          <a:xfrm>
            <a:off x="1371600" y="1676520"/>
            <a:ext cx="64008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2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E:\Wilkes\Systems\Pictures\30218_1470455479203_1168084531_1368926_1028147_n.jpg"/>
          <p:cNvPicPr/>
          <p:nvPr/>
        </p:nvPicPr>
        <p:blipFill>
          <a:blip r:embed="rId2"/>
          <a:stretch/>
        </p:blipFill>
        <p:spPr>
          <a:xfrm>
            <a:off x="1270080" y="1752480"/>
            <a:ext cx="6502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E:\Wilkes\Systems\Pictures\29067_1184422909492_1795847780_374878_1973520_n.jpg"/>
          <p:cNvPicPr/>
          <p:nvPr/>
        </p:nvPicPr>
        <p:blipFill>
          <a:blip r:embed="rId2"/>
          <a:stretch/>
        </p:blipFill>
        <p:spPr>
          <a:xfrm>
            <a:off x="1371600" y="1751040"/>
            <a:ext cx="65530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5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E:\Wilkes\Systems\Pictures\imagesCAPWA3OZ.jpg"/>
          <p:cNvPicPr/>
          <p:nvPr/>
        </p:nvPicPr>
        <p:blipFill>
          <a:blip r:embed="rId2"/>
          <a:stretch/>
        </p:blipFill>
        <p:spPr>
          <a:xfrm>
            <a:off x="2743200" y="1600200"/>
            <a:ext cx="3249720" cy="323388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2"/>
          <p:cNvGrpSpPr/>
          <p:nvPr/>
        </p:nvGrpSpPr>
        <p:grpSpPr>
          <a:xfrm>
            <a:off x="609480" y="3657600"/>
            <a:ext cx="7848720" cy="2857680"/>
            <a:chOff x="609480" y="3657600"/>
            <a:chExt cx="7848720" cy="2857680"/>
          </a:xfrm>
        </p:grpSpPr>
        <p:pic>
          <p:nvPicPr>
            <p:cNvPr id="329" name="Picture 3" descr="E:\Wilkes\Systems\Pictures\332d814.jpg"/>
            <p:cNvPicPr/>
            <p:nvPr/>
          </p:nvPicPr>
          <p:blipFill>
            <a:blip r:embed="rId3"/>
            <a:stretch/>
          </p:blipFill>
          <p:spPr>
            <a:xfrm>
              <a:off x="609480" y="3657600"/>
              <a:ext cx="1625400" cy="16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7" descr="E:\Wilkes\Systems\Pictures\logo.png"/>
            <p:cNvPicPr/>
            <p:nvPr/>
          </p:nvPicPr>
          <p:blipFill>
            <a:blip r:embed="rId4"/>
            <a:srcRect l="17341" t="8746" r="24872" b="0"/>
            <a:stretch/>
          </p:blipFill>
          <p:spPr>
            <a:xfrm>
              <a:off x="2971800" y="5105520"/>
              <a:ext cx="281952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2" descr="E:\Wilkes\Systems\Pictures\company-logo-nyleve.jpg"/>
            <p:cNvPicPr/>
            <p:nvPr/>
          </p:nvPicPr>
          <p:blipFill>
            <a:blip r:embed="rId5"/>
            <a:stretch/>
          </p:blipFill>
          <p:spPr>
            <a:xfrm>
              <a:off x="6477120" y="3809880"/>
              <a:ext cx="1981080" cy="149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E:\Wilkes\Systems\Pictures\BoyScoutLogo.jpg"/>
          <p:cNvPicPr/>
          <p:nvPr/>
        </p:nvPicPr>
        <p:blipFill>
          <a:blip r:embed="rId2"/>
          <a:stretch/>
        </p:blipFill>
        <p:spPr>
          <a:xfrm>
            <a:off x="3581280" y="1752480"/>
            <a:ext cx="1747800" cy="2019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E:\Wilkes\Systems\Pictures\copy9.jpg"/>
          <p:cNvPicPr/>
          <p:nvPr/>
        </p:nvPicPr>
        <p:blipFill>
          <a:blip r:embed="rId3"/>
          <a:stretch/>
        </p:blipFill>
        <p:spPr>
          <a:xfrm>
            <a:off x="6705720" y="2514600"/>
            <a:ext cx="2141280" cy="2666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E:\Wilkes\Systems\Pictures\assistant-district-commissioner.jpg"/>
          <p:cNvPicPr/>
          <p:nvPr/>
        </p:nvPicPr>
        <p:blipFill>
          <a:blip r:embed="rId4"/>
          <a:stretch/>
        </p:blipFill>
        <p:spPr>
          <a:xfrm>
            <a:off x="228600" y="28195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E:\Wilkes\Systems\Pictures\191_lowwapaneu_pa_s13.jpg"/>
          <p:cNvPicPr/>
          <p:nvPr/>
        </p:nvPicPr>
        <p:blipFill>
          <a:blip r:embed="rId5"/>
          <a:stretch/>
        </p:blipFill>
        <p:spPr>
          <a:xfrm>
            <a:off x="2362320" y="4800600"/>
            <a:ext cx="4346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4:34:04Z</dcterms:created>
  <dc:creator>Administrator</dc:creator>
  <dc:description/>
  <dc:language>en-US</dc:language>
  <cp:lastModifiedBy>Stephen</cp:lastModifiedBy>
  <dcterms:modified xsi:type="dcterms:W3CDTF">2011-05-24T02:44:56Z</dcterms:modified>
  <cp:revision>42</cp:revision>
  <dc:subject/>
  <dc:title>Digital Storytelling Project</dc:title>
</cp:coreProperties>
</file>